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04313" cy="68326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3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132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5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3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132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79440" y="261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240" y="1366920"/>
            <a:ext cx="79372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2760" y="6492960"/>
            <a:ext cx="8560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©Ian Sommerville, adapted by Werner Wild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Project Management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Slide  </a:t>
            </a:r>
            <a:fld id="{372D3EF7-E581-4BA7-8A70-9E4A93079228}" type="slidenum"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roject managemen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85680" y="1974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1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ing, planning and scheduling software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roject plann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ly the most time-consuming  project management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activity from initial concept throug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ystem deliv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s must be regularly revised as new information become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roject plan structur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and software resourc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breakdown (User Sto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schedule (Release &amp; Iteration Plan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ing and reporting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ctivity organizatio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ies in a project should be organized to produce tangible outputs for management to judge pro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end-point of a process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project results delivered to cust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The waterfall process allows for the straightforward definition of progress mile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Milestones and deliverabl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" y="2540160"/>
            <a:ext cx="8863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roject schedul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project into tasks and estimate time and resources required to complete each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 tasks concurrently to make optim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work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task dependencies to avoid delay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d by one task waiting for another to 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on project managers intuition and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Scheduling problem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the difficulty of problems and hence the cost of developing a solution is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vity is not proportional to the number of people working on a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people to a late project makes it later because of communication overhe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expected always happens. Always allow contingency in pla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Bar charts and activity network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notations used to illustrate the project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project breakdown into tasks. Tasks should not be too small. They should take about a week or tw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 charts show task dependencies and the the critical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 charts show schedule against calendar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ask durations and dependenci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87280" y="1486080"/>
          <a:ext cx="6658200" cy="53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86080"/>
                    <a:ext cx="66582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ctivity network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0" y="1486080"/>
            <a:ext cx="8280360" cy="53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ctivity time-lin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1800" y="1498680"/>
            <a:ext cx="8191800" cy="50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troduce software project management and to describe its distinctive character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cuss project planning and the planning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how graphical schedule representations are used by project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Staff allocatio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9960" y="1536840"/>
            <a:ext cx="807732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Key poin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project management is essential for project su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42300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angible nature of software causes problems for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42300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have diverse roles but their most significant activities are planning, estimating and schedu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42300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and estimating are iterative process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ontinue throughout the course of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ject milestone is a predictable state whe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ormal report of progress is presented to manage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 charts and bar charts are graphical representations of a project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Key poin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opics covered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ed with activities involved in ensur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software is delive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45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45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45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ccordance with the requirements of the organizations developing and procuring the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Software project managemen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ngineering is an economic activ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refore is subject to economic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echnical constra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managed projects sometimes fail. Bad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d projects inevitably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bjective of this lecture is to introdu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activities rather than teach you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na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ou can only learn to manage by man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hy is management important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duct is intang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duct is uniquely flex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ftware development process is no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ftware projects are “one-off” pro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79440" y="261720"/>
            <a:ext cx="8440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Software management distinction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planning and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monitoring and re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nel selection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writing and pres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Management activiti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ctivities are not peculiar to softw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echniques of engineering projec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are equally applicable to softw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ly complex engineering systems te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uffer from the same problems as softw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Management commonaliti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roject staff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ot be possible to appoint the ideal people to work on a pro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45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budget may not allow for the use of highly-paid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45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ff with the appropriate experience may not be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45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rganization may wish to develop employee skills on a software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8T17:21:36Z</dcterms:created>
  <dc:creator/>
  <dc:description/>
  <cp:keywords/>
  <dc:language>en-US</dc:language>
  <cp:lastModifiedBy>Tahir</cp:lastModifiedBy>
  <cp:lastPrinted>1995-12-15T09:16:29Z</cp:lastPrinted>
  <dcterms:modified xsi:type="dcterms:W3CDTF">2010-04-02T17:53:24Z</dcterms:modified>
  <cp:revision>12</cp:revision>
  <dc:subject/>
  <dc:title>Project management</dc:title>
</cp:coreProperties>
</file>